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49.wmf" ContentType="image/x-wmf"/>
  <Override PartName="/ppt/media/image48.gif" ContentType="image/gif"/>
  <Override PartName="/ppt/media/image44.wmf" ContentType="image/x-wmf"/>
  <Override PartName="/ppt/media/image47.gif" ContentType="image/gif"/>
  <Override PartName="/ppt/media/image72.wmf" ContentType="image/x-wmf"/>
  <Override PartName="/ppt/media/image43.wmf" ContentType="image/x-wmf"/>
  <Override PartName="/ppt/media/image9.png" ContentType="image/png"/>
  <Override PartName="/ppt/media/image40.wmf" ContentType="image/x-wmf"/>
  <Override PartName="/ppt/media/image6.png" ContentType="image/png"/>
  <Override PartName="/ppt/media/image83.png" ContentType="image/png"/>
  <Override PartName="/ppt/media/image41.wmf" ContentType="image/x-wmf"/>
  <Override PartName="/ppt/media/whoosh.wav" ContentType="audio/x-wav"/>
  <Override PartName="/ppt/media/image19.png" ContentType="image/png"/>
  <Override PartName="/ppt/media/image62.jpeg" ContentType="image/jpeg"/>
  <Override PartName="/ppt/media/image39.jpeg" ContentType="image/jpeg"/>
  <Override PartName="/ppt/media/image37.wmf" ContentType="image/x-wmf"/>
  <Override PartName="/ppt/media/image36.wmf" ContentType="image/x-wmf"/>
  <Override PartName="/ppt/media/image35.png" ContentType="image/png"/>
  <Override PartName="/ppt/media/image32.gif" ContentType="image/gif"/>
  <Override PartName="/ppt/media/image30.wmf" ContentType="image/x-wmf"/>
  <Override PartName="/ppt/media/image73.png" ContentType="image/png"/>
  <Override PartName="/ppt/media/image29.wmf" ContentType="image/x-wmf"/>
  <Override PartName="/ppt/media/image46.wmf" ContentType="image/x-wmf"/>
  <Override PartName="/ppt/media/image50.wmf" ContentType="image/x-wmf"/>
  <Override PartName="/ppt/media/image87.wmf" ContentType="image/x-wmf"/>
  <Override PartName="/ppt/media/image1.jpeg" ContentType="image/jpeg"/>
  <Override PartName="/ppt/media/image89.wmf" ContentType="image/x-wmf"/>
  <Override PartName="/ppt/media/image52.wmf" ContentType="image/x-wmf"/>
  <Override PartName="/ppt/media/image18.wmf" ContentType="image/x-wmf"/>
  <Override PartName="/ppt/media/image60.wmf" ContentType="image/x-wmf"/>
  <Override PartName="/ppt/media/image88.wmf" ContentType="image/x-wmf"/>
  <Override PartName="/ppt/media/image20.png" ContentType="image/png"/>
  <Override PartName="/ppt/media/image59.wmf" ContentType="image/x-wmf"/>
  <Override PartName="/ppt/media/image61.wmf" ContentType="image/x-wmf"/>
  <Override PartName="/ppt/media/image63.png" ContentType="image/png"/>
  <Override PartName="/ppt/media/image27.wmf" ContentType="image/x-wmf"/>
  <Override PartName="/ppt/media/image64.wmf" ContentType="image/x-wmf"/>
  <Override PartName="/ppt/media/image24.png" ContentType="image/png"/>
  <Override PartName="/ppt/media/image75.wmf" ContentType="image/x-wmf"/>
  <Override PartName="/ppt/media/image86.wmf" ContentType="image/x-wmf"/>
  <Override PartName="/ppt/media/image84.wmf" ContentType="image/x-wmf"/>
  <Override PartName="/ppt/media/image79.wmf" ContentType="image/x-wmf"/>
  <Override PartName="/ppt/media/image23.jpeg" ContentType="image/jpeg"/>
  <Override PartName="/ppt/media/image42.wmf" ContentType="image/x-wmf"/>
  <Override PartName="/ppt/media/image67.wmf" ContentType="image/x-wmf"/>
  <Override PartName="/ppt/media/image21.jpeg" ContentType="image/jpeg"/>
  <Override PartName="/ppt/media/image69.wmf" ContentType="image/x-wmf"/>
  <Override PartName="/ppt/media/image22.png" ContentType="image/png"/>
  <Override PartName="/ppt/media/image77.wmf" ContentType="image/x-wmf"/>
  <Override PartName="/ppt/media/image65.wmf" ContentType="image/x-wmf"/>
  <Override PartName="/ppt/media/image71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13.gif" ContentType="image/gif"/>
  <Override PartName="/ppt/media/image7.jpeg" ContentType="image/jpeg"/>
  <Override PartName="/ppt/media/image66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76.png" ContentType="image/png"/>
  <Override PartName="/ppt/media/image2.wmf" ContentType="image/x-wmf"/>
  <Override PartName="/ppt/media/image14.wmf" ContentType="image/x-wmf"/>
  <Override PartName="/ppt/media/image31.wmf" ContentType="image/x-wmf"/>
  <Override PartName="/ppt/media/image78.jpeg" ContentType="image/jpeg"/>
  <Override PartName="/ppt/media/image74.png" ContentType="image/png"/>
  <Override PartName="/ppt/media/image10.wmf" ContentType="image/x-wmf"/>
  <Override PartName="/ppt/media/image8.wmf" ContentType="image/x-wmf"/>
  <Override PartName="/ppt/media/image85.wmf" ContentType="image/x-wmf"/>
  <Override PartName="/ppt/media/image5.wmf" ContentType="image/x-wmf"/>
  <Override PartName="/ppt/media/image82.wmf" ContentType="image/x-wmf"/>
  <Override PartName="/ppt/media/image17.wmf" ContentType="image/x-wmf"/>
  <Override PartName="/ppt/media/image11.wmf" ContentType="image/x-wmf"/>
  <Override PartName="/ppt/media/image12.gif" ContentType="image/gif"/>
  <Override PartName="/ppt/media/image4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01FF-FB04-47EE-B302-EBF9794FC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add these forces they would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ogether to equal greate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 is an another example of f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bricants or grease reduce f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rtia comes from the Latin word meaning laz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88E-59FC-450E-A29B-355E8E30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C12-9A62-48FF-A447-D7EA1A87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A78-3A44-49BB-8AE2-37F21D8E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096-43BD-4114-8D87-08B2E999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ADD-A5E6-4C4F-927C-85298A8F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BC6-37CC-4A58-AEF7-7DDBD5E6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BB8-1EA4-4D60-A4BC-2E800BBD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A38-53E8-4FE6-BEF2-EC5493B6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CFB-F077-4C94-9262-9E80BBBA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9B6-A7B7-4DC8-A10B-D24CA5FE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570-B75F-4872-B2FB-D837784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08C-9418-4788-85DD-51EAF23A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88E9-6451-4147-8A89-4448C0C65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oidix.com/images/tutorialimages/fireworks/motion_trail_1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tarbaseca.org/images/CAIR027.CMX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momentum/u4l2c.html" TargetMode="Externa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60840" y="2163240"/>
            <a:ext cx="361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KS Phy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efinition of a For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Force is a push or a p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876920" y="4191120"/>
          <a:ext cx="251460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191120"/>
                    <a:ext cx="251460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914400" y="4114800"/>
          <a:ext cx="20239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114800"/>
                    <a:ext cx="2023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867280" y="1905120"/>
          <a:ext cx="17686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905120"/>
                    <a:ext cx="1768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90720" y="64008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t of force is New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lanced For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3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ce that produces no change in an object’s motion because it is balanced by an equal, opposite fo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AG00343_" descr=""/>
          <p:cNvPicPr/>
          <p:nvPr/>
        </p:nvPicPr>
        <p:blipFill>
          <a:blip r:embed="rId1"/>
          <a:stretch/>
        </p:blipFill>
        <p:spPr>
          <a:xfrm>
            <a:off x="5410080" y="304812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80" name="AG00342_" descr=""/>
          <p:cNvPicPr/>
          <p:nvPr/>
        </p:nvPicPr>
        <p:blipFill>
          <a:blip r:embed="rId2"/>
          <a:stretch/>
        </p:blipFill>
        <p:spPr>
          <a:xfrm>
            <a:off x="7315200" y="3048120"/>
            <a:ext cx="1474920" cy="140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6480" y="360000"/>
            <a:ext cx="77803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 Black"/>
              </a:rPr>
              <a:t>Unbalanced Forces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lack"/>
              </a:rPr>
              <a:t>Are forces that results in an object’s motion being changed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1981080"/>
            <a:ext cx="1281240" cy="486000"/>
          </a:xfrm>
          <a:prstGeom prst="rightArrow">
            <a:avLst>
              <a:gd name="adj1" fmla="val 50000"/>
              <a:gd name="adj2" fmla="val 6590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15000" y="3657600"/>
            <a:ext cx="1357200" cy="485640"/>
          </a:xfrm>
          <a:prstGeom prst="rightArrow">
            <a:avLst>
              <a:gd name="adj1" fmla="val 50000"/>
              <a:gd name="adj2" fmla="val 698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19760" y="2895480"/>
            <a:ext cx="2119320" cy="486000"/>
          </a:xfrm>
          <a:prstGeom prst="rightArrow">
            <a:avLst>
              <a:gd name="adj1" fmla="val 50000"/>
              <a:gd name="adj2" fmla="val 1090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2819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819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 Black"/>
              </a:rPr>
              <a:t>Fric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879720" cy="1675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13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 Black"/>
              </a:rPr>
              <a:t>A force that acts in a direction opposite to the motion of two surfaces in contact with each other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19653E-006 C 0.00382 0.07052 0.01285 0.16925 0.0467 0.16786 C 0.09566 0.16786 0.09913 -0.16255 0.15747 -0.1637 C 0.2099 -0.1637 0.18177 0.12508 0.23229 0.12393 C 0.28507 0.12393 0.2566 -0.08532 0.31302 -0.08532 C 0.36337 -0.08532 0.33542 0.05595 0.38038 0.05595 C 0.42361 0.05595 0.40122 -0.05203 0.44063 -0.05203 C 0.46302 -0.05203 0.46458 -0.02266 0.46667 2.19653E-006 E">
                                      <p:cBhvr>
                                        <p:cTn id="12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ri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 Black"/>
              </a:rPr>
              <a:t>Friction causes an object to slow down and stop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 Black"/>
              </a:rPr>
              <a:t>Since the amount of energy stays  constant, the energy becomes  heat.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667240" cy="2068560"/>
          </a:xfrm>
          <a:prstGeom prst="rect">
            <a:avLst/>
          </a:prstGeom>
          <a:ln w="0">
            <a:noFill/>
          </a:ln>
        </p:spPr>
      </p:pic>
      <p:pic>
        <p:nvPicPr>
          <p:cNvPr id="95" name="j0261094" descr=""/>
          <p:cNvPicPr/>
          <p:nvPr/>
        </p:nvPicPr>
        <p:blipFill>
          <a:blip r:embed="rId2"/>
          <a:stretch/>
        </p:blipFill>
        <p:spPr>
          <a:xfrm>
            <a:off x="6095880" y="1981080"/>
            <a:ext cx="205596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swer –A . More force exerted less time it will take 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90680" y="1522440"/>
            <a:ext cx="54054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47880" y="781200"/>
            <a:ext cx="6396120" cy="479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1447920"/>
            <a:ext cx="21333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An opposing force acted on the puc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ton’s 1st Law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9840"/>
            <a:ext cx="86868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Inertia </a:t>
            </a:r>
            <a:r>
              <a:rPr b="0" lang="en-US" sz="3800" spc="-1" strike="noStrike">
                <a:solidFill>
                  <a:srgbClr val="ccffff"/>
                </a:solidFill>
                <a:latin typeface="Arial Black"/>
              </a:rPr>
              <a:t>or Newtons 1</a:t>
            </a:r>
            <a:r>
              <a:rPr b="0" lang="en-US" sz="3800" spc="-1" strike="noStrike" baseline="30000">
                <a:solidFill>
                  <a:srgbClr val="ccffff"/>
                </a:solidFill>
                <a:latin typeface="Arial Black"/>
              </a:rPr>
              <a:t>st</a:t>
            </a:r>
            <a:r>
              <a:rPr b="0" lang="en-US" sz="3800" spc="-1" strike="noStrike">
                <a:solidFill>
                  <a:srgbClr val="ccffff"/>
                </a:solidFill>
                <a:latin typeface="Arial Black"/>
              </a:rPr>
              <a:t> Law</a:t>
            </a:r>
            <a:endParaRPr b="0" lang="en-US" sz="3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827360"/>
            <a:ext cx="42670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ndency for an object to stay at rest or moving in a straight line at a constant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mass (symbol is “m”,  measured in kg) of an object determines its iner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181480"/>
            <a:ext cx="3429000" cy="1143000"/>
          </a:xfrm>
          <a:custGeom>
            <a:avLst/>
            <a:gdLst>
              <a:gd name="textAreaLeft" fmla="*/ 535680 w 3429000"/>
              <a:gd name="textAreaRight" fmla="*/ 3148560 w 3429000"/>
              <a:gd name="textAreaTop" fmla="*/ 380880 h 1143000"/>
              <a:gd name="textAreaBottom" fmla="*/ 7621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7200"/>
                </a:moveTo>
                <a:lnTo>
                  <a:pt x="16296" y="7200"/>
                </a:lnTo>
                <a:lnTo>
                  <a:pt x="16296" y="0"/>
                </a:lnTo>
                <a:lnTo>
                  <a:pt x="21600" y="10800"/>
                </a:lnTo>
                <a:lnTo>
                  <a:pt x="16296" y="21600"/>
                </a:lnTo>
                <a:lnTo>
                  <a:pt x="16296" y="14400"/>
                </a:lnTo>
                <a:lnTo>
                  <a:pt x="3375" y="14400"/>
                </a:lnTo>
                <a:close/>
              </a:path>
              <a:path w="21600" h="21600">
                <a:moveTo>
                  <a:pt x="0" y="7200"/>
                </a:moveTo>
                <a:lnTo>
                  <a:pt x="675" y="7200"/>
                </a:lnTo>
                <a:lnTo>
                  <a:pt x="675" y="14400"/>
                </a:lnTo>
                <a:lnTo>
                  <a:pt x="0" y="14400"/>
                </a:lnTo>
                <a:close/>
              </a:path>
              <a:path w="21600" h="21600">
                <a:moveTo>
                  <a:pt x="1350" y="7200"/>
                </a:moveTo>
                <a:lnTo>
                  <a:pt x="2700" y="7200"/>
                </a:lnTo>
                <a:lnTo>
                  <a:pt x="2700" y="14400"/>
                </a:lnTo>
                <a:lnTo>
                  <a:pt x="1350" y="14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4120" y="2666880"/>
          <a:ext cx="3584520" cy="24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666880"/>
                    <a:ext cx="358452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Newton’s Second Law</a:t>
            </a:r>
            <a:br>
              <a:rPr sz="2000"/>
            </a:b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Acceleration is produced when a force acts on a mass. The greater the mass (of the object being accelerated) the greater the amount of force needed (to accelerate the object).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990960" cy="2057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08040" y="4608360"/>
            <a:ext cx="5807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= m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if the mass (m) is 1000 kg and the acceleration (a) is .05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000 kg x .05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5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on can be described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nge in position of a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velocity (speed) is the chang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n object ov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m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 Graph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t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 (v)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l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rise over run)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) vs. time (t)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04920"/>
            <a:ext cx="28195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 (pull of gravity) is a commonly measured force (measured in N), calculated by F=mg, g is the acceleration due to gravity 9.8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81160" cy="3352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040" y="3657600"/>
            <a:ext cx="1798560" cy="281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352680" y="2523960"/>
            <a:ext cx="57913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f the weight of an object is 60 N on earth what is its ma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 =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= weight / acceleration due to gr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 N / 9.8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6.12 k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38080" y="4800600"/>
            <a:ext cx="685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ce = m x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44.7 m/s- 0 m/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9.93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5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90.0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90.0 kg x 9.93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894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90920" y="274680"/>
            <a:ext cx="6553080" cy="4910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1447920"/>
            <a:ext cx="19051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action there is an equal and opposite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724280"/>
            <a:ext cx="45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33480" y="95400"/>
            <a:ext cx="7005600" cy="524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5943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Since the ball will go forward ,so the student will go back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baseline="30000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5207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579132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ce =  m x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1300 kg X 1.5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195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5943600" cy="4452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3200" y="4572000"/>
            <a:ext cx="6400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ce = mass x accel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f smaller skater = 40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leration of smaller skater =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3.0 m/s – 0 m/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5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2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 kg x 2.5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06280"/>
            <a:ext cx="7010280" cy="5251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91520" y="1447920"/>
            <a:ext cx="1752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callop will move  in the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 What is the weight of a rock that has a mass of 5.0 k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51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9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51 K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9 k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49568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= m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5.0 kg x 9.8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49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swer: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39840"/>
            <a:ext cx="5857920" cy="4618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5880" y="2438280"/>
            <a:ext cx="2667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= 1600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= 1.5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nce = speed x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0m/s x 1.5x 10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.02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 Airbags on cars are used to keep you from hitting the steering wheel of the car when the car hits a stationary object, because your body still ha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562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INER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Why use a machine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n an ideal (perfect) machine the work put into the machine equals the work put out by that machine (W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= W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Why is this impossible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465400">
            <a:off x="6118200" y="1760040"/>
            <a:ext cx="1392120" cy="1981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171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al machine is 100% efficient…  They do not put out the same amount of work that is put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 of a machine is work output / work input x 100 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x 100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Machines make work easi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l mechanical advantage (IMA) of a machine  is the number of times the output  force is larger than the input for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chine can only make this happen by moving the input force through a farther distance than the output forc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• 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• 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324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48400" cy="4905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90720" y="57913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work out put = 6N X 3m = 18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input = 30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converted to heat = 30 J -18J =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12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a.  An Automobile engine produces 15J of work for every 100J of energy consumed. What is the engine’s efficienc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666880"/>
            <a:ext cx="62485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Efficiency =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ork inp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x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out p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5 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x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1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b.  If a machine is 36% efficient and can provide 75J of work output, how much work must be put in the machin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cy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Arial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%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5 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X 100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input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5 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208 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machines make our work easier by enabling us to use less mechanical effort to move an object. Often several simple machines are combined in complex mach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, the ideal mechanical advantage of a machine (IMA) is the number of times the output force is larger than the input for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 =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chine can only make this happen by moving the input force through a further distance than the output fo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419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848360" cy="4691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5638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use machines to reduce the amount of force applied, but at the sake of more TOTAL work requir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6 Types of simple machin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11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ome Simple Machines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clined plan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crew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ulley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el and axl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Levers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dg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2819520" cy="224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38680" y="4392720"/>
            <a:ext cx="28288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oe Cool, Lee track star, ran 600 meters at 10m/sec.  How long did it take Joe to run the r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600200"/>
            <a:ext cx="541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= 60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= 10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= distance/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0m / 10 m/s =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33720" y="26668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cffff"/>
                </a:solidFill>
                <a:latin typeface="Arial"/>
              </a:rPr>
              <a:t>Work</a:t>
            </a:r>
            <a:endParaRPr b="0" lang="en-US" sz="6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6934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sing a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dist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F x 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done by forces on an object = changes in energy for that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and Energy are measured in Jou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oule = 1 Newton • 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353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9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3381480" cy="4619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48320" y="19051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you push a wall and the wall does not move, the distance moved is zero, so the work done is zero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136440"/>
            <a:ext cx="7620120" cy="570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657600" y="1752480"/>
            <a:ext cx="37339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7315200" cy="5479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05120" y="3962520"/>
            <a:ext cx="5333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5411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95280" y="57150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= F X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980N x 2.04 m = 2000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833480" y="63360"/>
            <a:ext cx="7005600" cy="5818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182880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= F X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N x 5 m = 1000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: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nergy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s defined as the  Ability to do Wor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nergy has Two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ypes: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24680" y="609480"/>
            <a:ext cx="3019320" cy="3048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0" y="434340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etic (Energy of Motion) an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(Stored Energy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095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Kinetic Energy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044440"/>
            <a:ext cx="59436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KE  =  ½  m v </a:t>
            </a:r>
            <a:r>
              <a:rPr b="1" lang="en-US" sz="5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x:  A moving car has the ability to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o work on the light pole if it hits it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 rot="1014000">
            <a:off x="5368680" y="2585880"/>
            <a:ext cx="3809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33480" y="152280"/>
            <a:ext cx="6472440" cy="4848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143000" y="5105520"/>
            <a:ext cx="655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.E. = ½ mv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J= ½ (1 kg) v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= V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= 1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19836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le the one that has more kinetic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25 kg mass or a 30 kg mass going 5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10 kg masses, one going 75 m/s, one going 45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r at rest or a car rolling down a h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eavy bike or a light bi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1143000"/>
            <a:ext cx="220968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2666880"/>
            <a:ext cx="342900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4343400"/>
            <a:ext cx="426708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562720"/>
            <a:ext cx="220968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5486400"/>
            <a:ext cx="548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= 14Km/12 min=1.17km/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= 12km/8min= 1.5 km/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15km/9 min =1.67 km/min- This is the greatest speed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Arial"/>
              </a:rPr>
              <a:t>Potential Energy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possibil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otential energy (PE) is stored energy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ravitational 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Object lifted to some heig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astic 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A stretched or compressed object (spring or rubber band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3317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avitational Potential Energy or “Will it fall?”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044440"/>
            <a:ext cx="510516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GPE = m g h 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is the mass of the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bject in kg, 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is the acceleratio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ue to gravity  which is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9.8 m/s</a:t>
            </a:r>
            <a:r>
              <a:rPr b="0" lang="en-US" sz="33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on earth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- h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is the height in meter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 rot="16200000">
            <a:off x="5897520" y="1987560"/>
            <a:ext cx="23940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animClr clrSpc="rgb">
                                      <p:cBhvr>
                                        <p:cTn id="6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700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w of Conservation of Ener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can change  forms, but is never created nor destr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in one form = gain in an another  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alling object speeds up as it falls to the ground; PE decreases as KE increases.  The KE it has at impact = the PE it had before it f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72200" y="4572000"/>
            <a:ext cx="27352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:  A falling object speeds up as it falls to the ground;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53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 decreases as KE increases, the KE it has at impact with the ground is equal to the PE it had before it f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870520" y="1143000"/>
            <a:ext cx="319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nergy can be conserved in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n-Mechanical form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044800"/>
            <a:ext cx="57150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chemical energy in a battery transforms into electrical energ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35560" y="2133720"/>
            <a:ext cx="2908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403848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5081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66680" y="510552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PE =m x g x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0kg x 9.8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 3.0 m =58.8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0kg x 9.8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 1 m =19.6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9.8-19.6= 39.2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080" y="59436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.P.E = m x g x h = 95kg x 9.8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1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93100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: the rate at which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WORK IS D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= Work/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is measured in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WAT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watt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 Jo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can be increased by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CREA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amount of time needed to do the same amount of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4624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4876920"/>
            <a:ext cx="65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= work /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= force x dista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12054 N x 1.89 m = 22782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22782J / 4.75s = 4796 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6705720" cy="502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086600" y="99072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ke sure to convert distance to m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0 cm = 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95480"/>
            <a:ext cx="19047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= f x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57 N x .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22.8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= work /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= 22.8 J / .60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38 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47840" y="507960"/>
            <a:ext cx="3862440" cy="91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172728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5562720"/>
            <a:ext cx="7467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nce moved= 3cm   time = 2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 = 3cm/2 second =1.5 c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-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5195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43000" y="5867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Perform work f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66600" y="610920"/>
            <a:ext cx="92772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 following correctly states the law of conservation of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Energy cannot be created or destroyed, but can be converted from one form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Energy can be created or destroyed, as well as being converted from one form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nergy is created when it is converted from one form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In most some energy is destro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562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swer -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mentum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formula used to calculate momentum =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 x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of momentum =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kg 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law of conservation of moment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absence of external forces, the total momentum of the system is con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using this law we can write the following equation about the two colliding objects, having mass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w of conservation of momentu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ollision occurring between object 1 and object 2 in an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isolated syste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the total momentum of the two objects before the collision is equal to the total momentum of the two objects after the collision. That is, the momentum lost by object 1 is equal to the momentum gained by object 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0720" y="5486400"/>
            <a:ext cx="5181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= m x 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kg   m/s = m x 30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/30 = 0.5 k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04960" y="6019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6858000" cy="5137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1752480"/>
            <a:ext cx="14479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of ball 1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x 3= 300 kg  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of bal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x 2m/s= 300 kg  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fference is 0 kg  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53280" y="2819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91560" y="516744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6781680" cy="5079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086600" y="685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of c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0 g x 2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 g  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39080" y="16477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22860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of 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0 g x v = 1000 g  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4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32360" y="3870360"/>
            <a:ext cx="235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24000" y="38088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066680" y="5867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 m/s x 100 kg = 630 kg  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59911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Velocity of all waves - 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v = f x 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 - frequency is the number of vibrations in one second .The pitch of sound depends on it’s freq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λ - wavelength (distance between identical points on two consecutive wav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flection - bounce off barriers in regular 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fraction - waves can change direction when speed changes. Light waves bend when they move from air into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sonance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ndency of a system to vibrate at maximum amplitude at certain frequen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25401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4419720" cy="3890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426708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leration (a) is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LOP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ELOC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v) vs. time (t)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ted on a distance vs. time graph, acceleration is an exponential cu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lope of a velocity –time graph represents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CEL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leration is a change in an objects velocity (speed or direc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57200"/>
            <a:ext cx="28954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n object’s speed changes over time it is accelerating (or decelera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 </a:t>
            </a:r>
            <a:r>
              <a:rPr b="0" lang="en-US" sz="1800" spc="-1" strike="noStrike" u="sng" baseline="-25000">
                <a:solidFill>
                  <a:srgbClr val="ffffff"/>
                </a:solidFill>
                <a:uFillTx/>
                <a:latin typeface="Arial"/>
              </a:rPr>
              <a:t>fina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– V </a:t>
            </a:r>
            <a:r>
              <a:rPr b="0" lang="en-US" sz="1800" spc="-1" strike="noStrike" u="sng" baseline="-25000">
                <a:solidFill>
                  <a:srgbClr val="ffffff"/>
                </a:solidFill>
                <a:uFillTx/>
                <a:latin typeface="Arial"/>
              </a:rPr>
              <a:t>init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s for acceleration or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467920" cy="5114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56386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5520" y="1143000"/>
            <a:ext cx="746460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and label the parts of a transverse wa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038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800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vibrations in one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47920" y="243000"/>
            <a:ext cx="6019560" cy="4510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60020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129120" y="1066680"/>
            <a:ext cx="6014880" cy="4505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33520" y="1981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Resona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7010280" cy="5251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162920" y="2590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833400"/>
            <a:ext cx="6324480" cy="4738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781680" y="1295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ref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7238880" cy="5422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69608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7467480" cy="5594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9246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6781680" cy="5079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2120" y="5943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formula chart v = f x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7800" y="274320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 = 1 m x 2 Hz = 2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30840" y="27576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 = 2 m x 8 Hz = 16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7800" y="42051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 = 3 m x 3 Hz = 9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30480" y="419112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 = 4 m x 1 Hz = 4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3352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ding of light is called ref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hter jet landing on aircraft carrier’s flight deck must reduce its speed from about 153 m/s to exactly 0 m/s in 2 s.  What is the jet’s acceler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fina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– V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0 m/s – 153 m/s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-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76.5 m/s</a:t>
            </a:r>
            <a:r>
              <a:rPr b="0" lang="en-US" sz="3200" spc="-1" strike="noStrike" baseline="30000">
                <a:solidFill>
                  <a:srgbClr val="ffe70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96120" y="3124080"/>
            <a:ext cx="2747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lectrical Energy - 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oving electrons in a path is electricit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040" y="2044800"/>
            <a:ext cx="80773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Potential Difference 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) is measured in Volts (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te of moving electric charges is called current (I) and is measured in Amperes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 to the movement of the current is called Resistance (R) and is measured in ohms 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 rot="629400">
            <a:off x="2819160" y="4724280"/>
            <a:ext cx="4495680" cy="1779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90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ircuits – 2 type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96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Series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circuits are the most simple.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ne (1) path for the current to travel.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ntains an energy source, a path, and a load (something for it to do, like a lamp)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4000"/>
          </a:blip>
          <a:srcRect l="15041" t="0" r="7520" b="0"/>
          <a:stretch/>
        </p:blipFill>
        <p:spPr>
          <a:xfrm>
            <a:off x="5000760" y="1862280"/>
            <a:ext cx="40669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ircuits – 2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578560" y="1066320"/>
            <a:ext cx="3565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circuits provide more than one path for the current to travel.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st circuits are parallel, since if one lamp goes out, the others can stay lit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bright="4000"/>
          </a:blip>
          <a:srcRect l="8464" t="0" r="5643" b="0"/>
          <a:stretch/>
        </p:blipFill>
        <p:spPr>
          <a:xfrm>
            <a:off x="304920" y="2209680"/>
            <a:ext cx="47019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80880" y="182880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= 1.5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= 2.0 oh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886200"/>
            <a:ext cx="1676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V /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1.5 V / 2.0 o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0.75 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952880" cy="4876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867280" y="205776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. 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.  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304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switches, if opened, wil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ause the light bulb to stop glow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2743200"/>
            <a:ext cx="2743200" cy="3750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t is the only switch in series to both the battery and light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SE THE FORMULA SHEET!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urrent in a copper wire that has a resistance of 2 ohms and is connected to a 9 volt electrical sourc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0.22 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4.5 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 11.0 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 18.0 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3733920"/>
            <a:ext cx="4038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 = I R so,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V = I x 2 ohms or 4.5 am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137160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llel circu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286520" cy="3228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3809880"/>
            <a:ext cx="7391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ransfer of heat by direct contact. Conduction takes place in solid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Heating by circulating fluids . Takes place in liquids and gases. Air currents are caused by conv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dia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hen infrared radiation heats up objec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’s heat reaches us by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6858000" cy="5137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2120" y="5867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ids are unable to transfer heat by fluid motion which is called convectio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7010280" cy="5251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600200" y="6172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Adding heat to the metal blo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</a:t>
            </a:r>
            <a:r>
              <a:rPr b="0" lang="en-US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fin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– V</a:t>
            </a:r>
            <a:r>
              <a:rPr b="0" lang="en-US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init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6.5m/s-6.5m/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0 m/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52680" y="826920"/>
            <a:ext cx="579132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263520"/>
            <a:ext cx="7086600" cy="5308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391520" y="21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Con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77960"/>
            <a:ext cx="6400800" cy="4794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010280" y="14479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 currents are caused by convectio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881600" cy="50594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486400" y="838080"/>
            <a:ext cx="3200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ewable sources of energy - Sun , Water, W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cause no pollutio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24382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rawback of solar energy is it cannot be used on a cloudy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657600"/>
            <a:ext cx="32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ssil fuels like coal and petroleum are non renewable and cause a lot of pol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gases (i.e. sulfur dioxide) given off by fossil fuels cause acid r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52280" y="1062000"/>
            <a:ext cx="6019920" cy="4510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70572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 Solar ce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6324480" cy="47386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55308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Solar power plants produce less pollut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53080" y="1752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Can be used many ti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6320" y="887400"/>
            <a:ext cx="6019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6248520" cy="4681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781680" y="1523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Photovoltaic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595600" y="666720"/>
            <a:ext cx="6548400" cy="490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520" y="21337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ssil Fu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34290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y Sk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9:36:02Z</dcterms:created>
  <dc:creator>Clear Creek ISD</dc:creator>
  <dc:description/>
  <dc:language>en-US</dc:language>
  <cp:lastModifiedBy>Clear Creek ISD</cp:lastModifiedBy>
  <dcterms:modified xsi:type="dcterms:W3CDTF">2010-02-10T21:26:51Z</dcterms:modified>
  <cp:revision>220</cp:revision>
  <dc:subject/>
  <dc:title>Slide 1</dc:title>
</cp:coreProperties>
</file>